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01132"/>
        <c:axId val="65612685"/>
      </c:barChart>
      <c:catAx>
        <c:axId val="21501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12685"/>
        <c:crosses val="autoZero"/>
        <c:auto val="1"/>
        <c:lblAlgn val="ctr"/>
        <c:lblOffset val="100"/>
        <c:noMultiLvlLbl val="0"/>
      </c:catAx>
      <c:valAx>
        <c:axId val="65612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01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9CD-E579-4BDF-8F9C-D0E7E021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DCE-11BE-44C9-B441-F7A3CED9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739-D258-4864-8DCC-4B1268BB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12D-2A61-4E7D-963E-9D7C49BB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B98-5C8B-45C7-AD9E-8D50B104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4E5-B01B-4C97-B11D-CA717B21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B0A-455D-4D35-B45B-76B45068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353-8F2A-44F7-BD0A-D0537CB3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303-0341-4746-93E8-03217383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323-7F48-4A0A-B596-0A3696B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56A-180D-4932-8D7D-57F36701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910-28CD-4C1C-B107-CBB3247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51E7B-E0A8-4147-A2F3-C776D839C5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