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141293"/>
        <c:axId val="99481883"/>
      </c:barChart>
      <c:catAx>
        <c:axId val="661412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81883"/>
        <c:crosses val="autoZero"/>
        <c:auto val="1"/>
        <c:lblAlgn val="ctr"/>
        <c:lblOffset val="100"/>
        <c:noMultiLvlLbl val="0"/>
      </c:catAx>
      <c:valAx>
        <c:axId val="994818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412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AD75-9D18-4BA3-A710-F1DECD5D3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D360-05F2-4A5F-8246-E2D6FF0C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FA8C-F1DD-46B2-BA18-80ACEABD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CDB6-7FB9-42E6-9206-E8ADEB9C9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5DF9-E264-4B5C-9EA7-CF3C5A83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79B8-1B72-4111-BB69-65AC8079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081A-6A81-4C4B-A2BC-6E79B8F6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45C5-61F5-4CA8-9FBE-06D444F8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2FA6-2B8F-4926-9BED-74BF0B5D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7DA3-B812-4A3C-A151-132A7541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22D8-2568-4DE2-BAA3-0823BFE4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6AD4-8D56-4A26-AD42-CDD64D03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364EE-A09E-445C-ADCB-27D5CF455C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