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67374"/>
        <c:axId val="8348497"/>
      </c:barChart>
      <c:catAx>
        <c:axId val="78367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497"/>
        <c:crosses val="autoZero"/>
        <c:auto val="1"/>
        <c:lblAlgn val="ctr"/>
        <c:lblOffset val="100"/>
        <c:noMultiLvlLbl val="0"/>
      </c:catAx>
      <c:valAx>
        <c:axId val="8348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67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AAA-C1FC-4849-81ED-03E43319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055-878E-4EDA-8343-A413239A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3AB-9324-4C1F-807A-6AD1AC82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FDD-AD41-42AC-BF37-4AFE944D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193-C4F5-4418-BB41-1B02162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034-45BE-409E-B9BD-7A2606C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493-4129-41C8-AA2D-EB4B7979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0D6-2918-4CBE-A59D-EC71CF8B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560-F31F-4A6D-B7DE-8DFBAAA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D51-688F-4F12-9379-A87B65A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561-47A6-48D5-A86D-F6EC74D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3BB-09B0-48FD-AD9F-915D0AA3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832F-5303-49BB-8DDF-F902E01BF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