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4743"/>
        <c:axId val="14355468"/>
      </c:barChart>
      <c:catAx>
        <c:axId val="8634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55468"/>
        <c:crosses val="autoZero"/>
        <c:auto val="1"/>
        <c:lblAlgn val="ctr"/>
        <c:lblOffset val="100"/>
        <c:noMultiLvlLbl val="0"/>
      </c:catAx>
      <c:valAx>
        <c:axId val="14355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4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A62-7889-47AB-B70A-D0B68D60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541-D00E-4F92-9F3E-9674356F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56A-6EEF-4213-87F6-2DD19FED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729-1B44-4842-B69D-BB043FE8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6A3-18C9-46C6-B5B9-D33082D7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F50-E1E4-40AA-BA92-872DCC13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854-1399-4093-ADD3-655D33B0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734-EAE4-4215-868B-64055909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8C2-A6B3-4246-9AA6-C4712403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308-FF17-427F-8866-9B342A2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D30-20FD-4787-9191-B12F10A2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3DB-F64D-4595-8848-797CE425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40005-000D-412B-BED3-AA2B6DE286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