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48279"/>
        <c:axId val="13473986"/>
      </c:barChart>
      <c:catAx>
        <c:axId val="25348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73986"/>
        <c:crosses val="autoZero"/>
        <c:auto val="1"/>
        <c:lblAlgn val="ctr"/>
        <c:lblOffset val="100"/>
        <c:noMultiLvlLbl val="0"/>
      </c:catAx>
      <c:valAx>
        <c:axId val="13473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48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F20-7D43-45D5-971F-A43B0A48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CB0-952B-4CD2-A3D8-1BE4E207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0F7-4297-4CC7-9070-5459D6D6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8E1-271E-4654-8EFF-8A87D922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CE8-A865-4CA2-9AC9-555C33FC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F89-C71E-4466-AA59-5E7B0510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CB7-9E8D-465F-A2C5-5812AF6F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A38-F63B-4F2D-AA07-B72084FB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333-F9EA-408C-B241-18F9FFBB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0B6-656B-49F5-BDC8-39565ECD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6DE-EF2D-43D9-B075-FC6ADA0C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A07-8FB8-4FE7-B865-5894898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A7D97-4EE5-411A-B45B-02B789A5E9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