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85196"/>
        <c:axId val="94168512"/>
      </c:barChart>
      <c:catAx>
        <c:axId val="78985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68512"/>
        <c:crosses val="autoZero"/>
        <c:auto val="1"/>
        <c:lblAlgn val="ctr"/>
        <c:lblOffset val="100"/>
        <c:noMultiLvlLbl val="0"/>
      </c:catAx>
      <c:valAx>
        <c:axId val="94168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85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746-9F5D-4C8F-A3A3-36C93290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ADA-36F6-490E-B025-4F96FEF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DFF-6351-4EC9-A384-153BD34A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5E2-D364-47DD-9878-226BA766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AE4-2F42-4152-BA35-FB9D62D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454-0DC0-42FF-A734-5F958D3E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B4C-29B0-4E3F-B453-EAFABEF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A1D-F4F5-4E15-A659-1B902EA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253-A25C-4973-A9FE-BE023F5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A1D-E7C8-4370-978A-C3A5F78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D24-FE62-480C-9030-21E72C02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FF7-4A0B-41A1-84AF-F89D6D3A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8B12B-F181-4C1E-8E4A-03A276EB13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