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99712"/>
        <c:axId val="97369387"/>
      </c:barChart>
      <c:catAx>
        <c:axId val="54499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9387"/>
        <c:crosses val="autoZero"/>
        <c:auto val="1"/>
        <c:lblAlgn val="ctr"/>
        <c:lblOffset val="100"/>
        <c:noMultiLvlLbl val="0"/>
      </c:catAx>
      <c:valAx>
        <c:axId val="97369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99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639-C8B6-4961-BDE3-00718729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3D1-54EC-4849-98DE-67D9702D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38D-C9DF-4233-B927-FDFC1852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37A-9CC0-4D30-81BC-58D59348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796-7524-4626-8BE1-1F6F99A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C92-59C6-41DC-A5DB-71E0E03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164-F212-4341-B0CE-6DA16DB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A83-9AFF-4ECF-82A8-2B51A49D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B23-7159-491F-86F7-D3E2146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A5E-66FE-4EBF-8DCB-1B98F88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6C6-1818-47AB-85AC-58E77A2A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A56-81D0-4240-9F66-213B6E8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961BB-E505-48BE-A7F1-74B01AD893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