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41619"/>
        <c:axId val="44769863"/>
      </c:barChart>
      <c:catAx>
        <c:axId val="90241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69863"/>
        <c:crosses val="autoZero"/>
        <c:auto val="1"/>
        <c:lblAlgn val="ctr"/>
        <c:lblOffset val="100"/>
        <c:noMultiLvlLbl val="0"/>
      </c:catAx>
      <c:valAx>
        <c:axId val="44769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1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4B5-A261-457E-82C9-783BC4D2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932-A935-4D81-8F55-9CBCF328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D5E-3A83-4834-9DD7-CC20D50D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405-3560-48C1-B954-6E43DDA4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737-128B-481C-80FC-653628C8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F96-950F-4725-B269-DE7A466E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531-9F50-405A-9515-250182F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0DC-4B7F-4A15-9474-D45F629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486-71F9-4235-A141-588EE046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6EF-3CB5-4394-A8AC-A9A1DAF8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0B3-7214-4F38-8E77-EB21D092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955-8303-43AA-BC2A-F4749CD1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FF6BD-1A48-4BBE-A2AF-855BC6F8C7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