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672968"/>
        <c:axId val="4678737"/>
      </c:barChart>
      <c:catAx>
        <c:axId val="926729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8737"/>
        <c:crosses val="autoZero"/>
        <c:auto val="1"/>
        <c:lblAlgn val="ctr"/>
        <c:lblOffset val="100"/>
        <c:noMultiLvlLbl val="0"/>
      </c:catAx>
      <c:valAx>
        <c:axId val="46787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6729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7A05-5A2C-44FD-B21F-8B9006ACD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A099-612C-4BE7-A731-72BA6ECB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6B7D-9840-42D5-91FE-CA4624121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0768-6FD0-44DC-B484-B46BF61F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4310-2F0C-42F6-8F2C-8A74B322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A4AD-B789-4FA8-ABFB-5AA66813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65B5-1A2E-4D7F-8C53-BBE3599F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4D01-76C0-4227-90FE-CB7C9288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8535-C254-4B49-B5F1-705C7485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0808-9434-42EE-B5A8-DBAF9348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F342-E897-4E00-ACE8-2D1D0530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4166-C28C-4592-B693-1831F46B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2B119-0EE2-4C92-9803-F3C30CAD85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