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95619"/>
        <c:axId val="92453377"/>
      </c:barChart>
      <c:catAx>
        <c:axId val="7439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53377"/>
        <c:crosses val="autoZero"/>
        <c:auto val="1"/>
        <c:lblAlgn val="ctr"/>
        <c:lblOffset val="100"/>
        <c:noMultiLvlLbl val="0"/>
      </c:catAx>
      <c:valAx>
        <c:axId val="92453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600-E5BC-41D1-A58A-D6317627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D0E-AFFB-475D-8AE7-46D9165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B36-4B91-4478-ADC5-1D9D641F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018-EAB6-4FAF-B59E-E9B91F65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B41-6230-49B3-A51D-A612941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222-308C-4B1B-B50F-EB154BA4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BA1-B9CE-4CE8-A54F-DDA518E2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F3A-A615-4C58-904D-ECC5C91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21-AB05-41F9-B390-894FC499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CE0-F15E-4EBE-A781-F5D1607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4BD-BF8C-4441-A510-1A862C3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229-907F-4A7D-A6CC-0DAB72C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025FC-094F-410F-B9D1-C5BF2BF6D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