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692922"/>
        <c:axId val="90441286"/>
      </c:barChart>
      <c:catAx>
        <c:axId val="296929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441286"/>
        <c:crosses val="autoZero"/>
        <c:auto val="1"/>
        <c:lblAlgn val="ctr"/>
        <c:lblOffset val="100"/>
        <c:noMultiLvlLbl val="0"/>
      </c:catAx>
      <c:valAx>
        <c:axId val="90441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6929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E570-6C21-497A-9DD1-D7994BBAF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8516-92C0-422E-9BC9-D2273A1A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9ABC-93E6-48F0-9D82-ED116AEF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EB27-2E35-4F01-8B8D-70E3012F8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D0BC-4434-4882-A7E2-C9A8C5504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4882-A49F-4260-AAA4-10917361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815C-16B3-43C2-8E86-4B5E30FCF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E357-C055-4CFD-BC86-DE36E455D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9A4A-5A2F-40A1-8482-AA962F500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7C97-5CE2-48C0-81C6-9DAF30131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B9D-A4FC-4D9F-AE4F-849B08F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DB1D6-4769-4DA9-8EA5-A23E9A5FF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C586B3-DB8D-4880-B8EE-F9DB3582C8D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