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82916"/>
        <c:axId val="96936160"/>
      </c:barChart>
      <c:catAx>
        <c:axId val="15882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36160"/>
        <c:crosses val="autoZero"/>
        <c:auto val="1"/>
        <c:lblAlgn val="ctr"/>
        <c:lblOffset val="100"/>
        <c:noMultiLvlLbl val="0"/>
      </c:catAx>
      <c:valAx>
        <c:axId val="96936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82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D99-04F5-4452-B35F-77A887FF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3FE-5286-490A-A8F4-BA6AB361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139-12D4-40B2-9E49-C9B06049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92C-FD8B-4810-A772-28370BF9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ED2-82C2-48C1-9308-B08F6A6A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AFE-93E0-4E31-BBBA-F22701C3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71E-2C24-43A3-BEAB-ED57D5C8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B55-B12C-4E9D-9E1A-2F2CD0DB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A74-7075-43C8-913C-3307B6A9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B77-7637-4D78-944A-6D87B657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330-CA41-4922-85BE-20E98CEC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BD5-217A-454F-A29E-73BBFF8B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89176-1FFB-4DB6-8E44-82FA050B8F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