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06584"/>
        <c:axId val="7038383"/>
      </c:barChart>
      <c:catAx>
        <c:axId val="26106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8383"/>
        <c:crosses val="autoZero"/>
        <c:auto val="1"/>
        <c:lblAlgn val="ctr"/>
        <c:lblOffset val="100"/>
        <c:noMultiLvlLbl val="0"/>
      </c:catAx>
      <c:valAx>
        <c:axId val="70383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06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365-6430-45DC-8636-591949A6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91CF-2A13-4642-A0B4-7E3C1794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D222-E24D-44C4-83E9-CD3689E5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29BC-881C-470D-A2F3-56374A4B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1F6-093F-4C16-AAE6-4C50D1A7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A1FB-51BE-4FE6-87C0-0F9E38A3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59D-C3D3-4D37-BE41-D1C08C57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E32D-E11C-4C55-938C-83C21578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FBC1-4662-47FE-9848-EA619872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9C6-5273-402C-B23B-76F8BD92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1E5-95FB-427C-B794-AD73E426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B631-0B73-4AAB-8265-B6441545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81CEE-8336-4434-B084-7C34E232DF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