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34869"/>
        <c:axId val="21841811"/>
      </c:barChart>
      <c:catAx>
        <c:axId val="18834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41811"/>
        <c:crosses val="autoZero"/>
        <c:auto val="1"/>
        <c:lblAlgn val="ctr"/>
        <c:lblOffset val="100"/>
        <c:noMultiLvlLbl val="0"/>
      </c:catAx>
      <c:valAx>
        <c:axId val="21841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34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73A-9164-46BA-8B35-018DD351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0CC-D43A-4813-8874-55370AD0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0B2-C031-436D-A697-44F95DC8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D4B-8473-40B0-8225-6513F7BE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338-7A4E-4BF0-A2CE-70056D20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D42-58DC-4760-B4B7-F36BA0AF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CC9-BEE0-49F3-9E86-30CBC076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19E-2ACD-4B50-B95B-FF8165F1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8DB-C97B-4B6F-98D6-CCC71C96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FD3-D202-4B03-87D6-30C9950B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663-F667-4902-AA87-8526F293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E47-1CF7-4C49-BB47-17C86B3A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67CE3-D14D-44CB-81FD-2CBE9B80F1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