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15239"/>
        <c:axId val="44501859"/>
      </c:barChart>
      <c:catAx>
        <c:axId val="33215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01859"/>
        <c:crosses val="autoZero"/>
        <c:auto val="1"/>
        <c:lblAlgn val="ctr"/>
        <c:lblOffset val="100"/>
        <c:noMultiLvlLbl val="0"/>
      </c:catAx>
      <c:valAx>
        <c:axId val="44501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15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3CD-92AA-48AB-87A8-C88571F7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CE6-B246-44FE-B615-67D0B2E9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BA9-B71B-47B2-BD77-7946F874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D66-8867-4834-98D8-626D9E60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171-7A65-454C-8030-5889754C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1D8-9F47-4EFA-98FF-C155668D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5A3-88B1-45E1-A866-A73F5A96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90A-2BB5-4D8B-8F83-86387A72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98B-E897-479C-98DB-CFCB0F5E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CE2-821A-40E2-950E-BDB7951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881-FE70-4B6F-83C0-F1D6EBD3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577-8F5A-4B9A-A9D9-3148C8BB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8EA89-AC53-42FA-AF02-7A9682447D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