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15854"/>
        <c:axId val="8780747"/>
      </c:barChart>
      <c:catAx>
        <c:axId val="44515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747"/>
        <c:crosses val="autoZero"/>
        <c:auto val="1"/>
        <c:lblAlgn val="ctr"/>
        <c:lblOffset val="100"/>
        <c:noMultiLvlLbl val="0"/>
      </c:catAx>
      <c:valAx>
        <c:axId val="8780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15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EC8-A867-44EA-A394-482BEC77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9426-77F7-4A1C-9C2F-C499B4EF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4D4-3D78-41C2-A6C7-4E5EC83A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0E2-7725-4F63-A52F-3B0A1D7D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9AB-CE7B-4B1F-B054-0C61A8F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35B-81F1-4031-AA04-52A87099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AED-C859-4749-B30E-FD471413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654-9EFA-40A4-85EC-78001F9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CFE-B1D9-4C04-A01E-0A090D5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25D-ADBC-4753-8170-D13AF5AD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7A5-E048-41FF-B060-A4FF7F1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8D4-9705-4084-8104-6105DC90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44F2A-08AC-4B16-B7DC-196FF40D4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