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819136"/>
        <c:axId val="19410579"/>
      </c:barChart>
      <c:catAx>
        <c:axId val="338191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410579"/>
        <c:crosses val="autoZero"/>
        <c:auto val="1"/>
        <c:lblAlgn val="ctr"/>
        <c:lblOffset val="100"/>
        <c:noMultiLvlLbl val="0"/>
      </c:catAx>
      <c:valAx>
        <c:axId val="194105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8191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3AE4-4788-46C2-B438-6AC1346CD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098A-FA64-4E6A-B3C6-843CD3528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38C5-28D5-4F32-9492-51F9F8306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D076-2943-4BFF-BEB6-B0CFD8D18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155A-3F47-4DC8-8584-EEBA590EA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05C9-DBEA-4456-8676-76FB01336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1E53-5943-4C7D-8D2C-EA0102477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C47D-CEB3-44BB-81C0-4735EE70C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2758-42BE-41FD-96BD-3BE80C603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8F14-9E7E-45B7-B513-F0FB69633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5B34-9292-41DC-A399-3E7F66450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C252-38EE-4F65-8352-B14767FF6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72F4D0-A4CB-4B28-9F2D-D39D14FB3A1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