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29682"/>
        <c:axId val="98019982"/>
      </c:barChart>
      <c:catAx>
        <c:axId val="95429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19982"/>
        <c:crosses val="autoZero"/>
        <c:auto val="1"/>
        <c:lblAlgn val="ctr"/>
        <c:lblOffset val="100"/>
        <c:noMultiLvlLbl val="0"/>
      </c:catAx>
      <c:valAx>
        <c:axId val="98019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29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EA1-E743-4B2D-B515-61DBC2A9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2AC-7074-4B86-80F5-BD663BA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A34-931E-4F3A-9445-CB20A0CB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168-5539-4947-A7F2-E40F4B89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B9F-73D0-4847-828C-D4D377AF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59F-C398-4041-8365-7159B812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5BE-2488-4148-AF83-27AC5673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B23-70D4-4675-BC70-24B90E2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BE6-13E3-42F4-8E29-E9945C8E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70B-18BD-4471-875F-E7CF4D62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D9A-77C4-4334-85C6-C93DCF1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816-E6D1-429A-AA18-64EC8B9E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72D69-6300-4D96-B969-52E19C6413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