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57287"/>
        <c:axId val="13818118"/>
      </c:barChart>
      <c:catAx>
        <c:axId val="37057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18118"/>
        <c:crosses val="autoZero"/>
        <c:auto val="1"/>
        <c:lblAlgn val="ctr"/>
        <c:lblOffset val="100"/>
        <c:noMultiLvlLbl val="0"/>
      </c:catAx>
      <c:valAx>
        <c:axId val="13818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57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9E8-7AA4-496F-A526-0A27159F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EC2-59C2-4079-B875-6AB162C6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E10-5DD6-467B-858C-87458465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3B2-7439-43DA-9AEE-77C241FD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69D-5773-4091-98C6-EB380686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75F-D751-4707-B410-39EE0172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33D-A9AF-4A3B-AAE9-56D870A4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A2A-5499-42CB-9F6F-7BB80DA2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D7F-88D8-4BCB-B26F-296BDD39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03B-63FB-4E6E-8A36-51054F90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11A-7A0D-48D3-975B-95BCB9A1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4B3-8E2F-4F75-B686-F2BB2BA8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52257-7971-485D-8416-436F097D1F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