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97256"/>
        <c:axId val="13972159"/>
      </c:barChart>
      <c:catAx>
        <c:axId val="48797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2159"/>
        <c:crosses val="autoZero"/>
        <c:auto val="1"/>
        <c:lblAlgn val="ctr"/>
        <c:lblOffset val="100"/>
        <c:noMultiLvlLbl val="0"/>
      </c:catAx>
      <c:valAx>
        <c:axId val="13972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7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40F-1570-4CC8-9E6D-95844302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702-08F5-49B7-93BF-49A5F62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A2E-1346-41ED-AFEE-987935E5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182-5620-472D-89E5-0B3707C7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16-92A7-47C5-88E5-3725857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2E6-DC82-40E0-98EF-4256EDD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FD2-C7A3-4A81-BBEB-1B0DC181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8A1-90AE-4ED6-A34A-E64BB56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1E3-A434-4E9F-819F-4CC1DA7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162-8626-4246-B33F-95327CC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1E8-C541-4D62-8C2C-5E38AE9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43B-57F2-4323-BABA-4E4A9C18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08F5B-E03F-47A5-98D2-BD9CF793A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