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185623"/>
        <c:axId val="57262785"/>
      </c:barChart>
      <c:catAx>
        <c:axId val="38185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62785"/>
        <c:crosses val="autoZero"/>
        <c:auto val="1"/>
        <c:lblAlgn val="ctr"/>
        <c:lblOffset val="100"/>
        <c:noMultiLvlLbl val="0"/>
      </c:catAx>
      <c:valAx>
        <c:axId val="57262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85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366-7802-4ABF-A909-03E6FEB4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2F8D-C223-482A-B49A-9959FEC4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D6A-E31B-4635-85A7-6542FFA9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C31C-A9E4-4286-83F9-D0CE8D7D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E1A-B693-4983-9953-F7440009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412E-DA88-457C-9A70-C326D47B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865D-BF87-419A-BD61-D70078F5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E195-9743-4A21-BD79-85560F9A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E5AE-113E-480C-ABAB-D523DE74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7DE-EED9-4BC5-AC3E-FD50E69C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17C-2342-43F5-8B67-A32993B1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38E-74B5-4596-A20E-FF0A9453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C4B20-D05A-43EC-9299-FC21217D1E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