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91249"/>
        <c:axId val="8477242"/>
      </c:barChart>
      <c:catAx>
        <c:axId val="24391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7242"/>
        <c:crosses val="autoZero"/>
        <c:auto val="1"/>
        <c:lblAlgn val="ctr"/>
        <c:lblOffset val="100"/>
        <c:noMultiLvlLbl val="0"/>
      </c:catAx>
      <c:valAx>
        <c:axId val="8477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91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C37-B255-4E02-86F4-CA8BD537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039-6583-4A62-8F32-28ABB512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055-2138-4D32-946F-9167ADDF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9E4-9C6D-45EC-805A-4D82235B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955-8983-4001-AF96-D6BC7940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D0D-D5F1-48B9-BA0D-5082732D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B16-4FB3-477F-BE65-C5F9BD9F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6F2-1462-4208-BEF6-2B043D01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3C6-5921-4C7C-947F-1024B93F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DF1-FD12-48DB-B846-7818A0D0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F94-425C-426D-B913-E405E11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9E1-B19A-4633-A9A1-D27D480D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C4615-5AA7-41AD-A7F0-2C16D3DE3B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