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47366"/>
        <c:axId val="6521382"/>
      </c:barChart>
      <c:catAx>
        <c:axId val="97647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382"/>
        <c:crosses val="autoZero"/>
        <c:auto val="1"/>
        <c:lblAlgn val="ctr"/>
        <c:lblOffset val="100"/>
        <c:noMultiLvlLbl val="0"/>
      </c:catAx>
      <c:valAx>
        <c:axId val="6521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47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66A-DF92-4BFC-9C11-CE91B8AF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9A8-B089-4AAD-85F9-710F155C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066-055D-4F2B-B50C-C1B7D31D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213-269C-4260-9F09-09074957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F32-8B4E-4B6D-8090-B778E9E8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D20-37A7-4EE4-83EA-DA7C9A1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F72-3E4E-4764-9955-31833F3E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135-2AC5-4027-92C4-E76A8F71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A20-BCE9-407B-B652-AA18544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2C8-CB0C-4802-87D5-4B08AF2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E83-92A3-4AFE-AEB4-F4DA63D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930-F510-4A71-BBA3-C9A5D77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68310-2F3C-4434-A521-F7FCA8D7A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