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57006"/>
        <c:axId val="46667428"/>
      </c:barChart>
      <c:catAx>
        <c:axId val="98257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67428"/>
        <c:crosses val="autoZero"/>
        <c:auto val="1"/>
        <c:lblAlgn val="ctr"/>
        <c:lblOffset val="100"/>
        <c:noMultiLvlLbl val="0"/>
      </c:catAx>
      <c:valAx>
        <c:axId val="466674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57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2A6-7DDD-442C-A6A1-C484D09A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7BB-7B23-4923-A447-7F1EF84C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C2E-DBF3-468F-BBE0-B20B80D1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8E7-9C2F-45A7-870A-E2071217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33A-69CB-4B17-97FB-2CBBAAD4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C2F-AF9F-44CE-9180-385E3E31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433-A1DF-44EA-A733-CC242644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60B-3727-4868-ADA1-C916506E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5A2-0981-4033-8BDF-75FA29B6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6A1-C564-46D7-B196-87141628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E1E-8557-4DCF-A117-496B81F5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0C4-7B1F-436C-949D-43A233AB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EF51E-65E0-482C-A3E0-44C68DC19E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