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795746"/>
        <c:axId val="78827572"/>
      </c:barChart>
      <c:catAx>
        <c:axId val="357957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827572"/>
        <c:crosses val="autoZero"/>
        <c:auto val="1"/>
        <c:lblAlgn val="ctr"/>
        <c:lblOffset val="100"/>
        <c:noMultiLvlLbl val="0"/>
      </c:catAx>
      <c:valAx>
        <c:axId val="788275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7957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8052-323D-4ED4-94B2-5A19A0309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7F78-B71C-41A4-BADE-14DD0F5BE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6610-10DA-4348-A2C2-4831ADA52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1E50A-4A0A-4688-BB13-9FE67B17B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219E-0A23-4EF0-A554-4085B3C90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7435-60C8-4F79-A290-4D45D8BEC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11EE-81C0-42BC-97B5-FEBCCDBA4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2BE7D-428B-429C-95EE-C2C095788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24CF-EA7E-4C48-8ED5-E6188EA46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5053-4DE1-42DE-8ED1-A5EAE1CC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97BB-7396-4265-B425-9BC16E0E8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1F3C-3988-403A-9DF7-152A9435E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8C4440-F3ED-4432-9D40-A1974CAC289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