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04743"/>
        <c:axId val="18424555"/>
      </c:barChart>
      <c:catAx>
        <c:axId val="13704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4555"/>
        <c:crosses val="autoZero"/>
        <c:auto val="1"/>
        <c:lblAlgn val="ctr"/>
        <c:lblOffset val="100"/>
        <c:noMultiLvlLbl val="0"/>
      </c:catAx>
      <c:valAx>
        <c:axId val="18424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04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13B-8851-4D5A-9FBF-EAC3C62B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11E-2A10-4594-9D42-C3557D0E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3E9-BA34-4B91-A04A-B7EBE40A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97C-6ACD-4E77-933D-CFFFF3A7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389-BCA0-4567-99B2-09BB5816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390-160E-4D43-B94D-5CE6744D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772-0E84-41BE-8B7D-579DEDA4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8D7-EBDC-44A1-B140-58A3D0D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032-14FD-4A7B-B3F3-9DC0D797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F06-A4C3-43E1-874A-0DEC358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437-65B3-417E-8ACA-B389814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462-6ABB-45A6-9746-0F91EE0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F5BD5-0F90-4061-A506-3FC140828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