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46403"/>
        <c:axId val="42800720"/>
      </c:barChart>
      <c:catAx>
        <c:axId val="93146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0720"/>
        <c:crosses val="autoZero"/>
        <c:auto val="1"/>
        <c:lblAlgn val="ctr"/>
        <c:lblOffset val="100"/>
        <c:noMultiLvlLbl val="0"/>
      </c:catAx>
      <c:valAx>
        <c:axId val="42800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6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4DA-6391-4776-A3D1-ACC3813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E5A-F26D-415B-A571-82D9B31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319-0C71-479D-AC1F-000BC2A4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2A7-7C5B-4334-B132-DB7F1AF0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F28-AA11-4717-A640-95A8B0E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47F-9D1C-4A95-A129-84B70C1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0EC-1A4D-42E2-83B3-CEB31DFE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70C-7F9A-4CF1-95EC-9D11E91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C92-BDC7-4E76-B4C0-5D1F525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4B8-3B8A-4AF2-85D2-BB52032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8A9-EF3E-4FCC-9FA4-2AABB96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762-6917-4A79-8B2E-E8E9F195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51A4C-AAF4-4FD4-9C0B-E05FF8093C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