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52269"/>
        <c:axId val="43241415"/>
      </c:barChart>
      <c:catAx>
        <c:axId val="61252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41415"/>
        <c:crosses val="autoZero"/>
        <c:auto val="1"/>
        <c:lblAlgn val="ctr"/>
        <c:lblOffset val="100"/>
        <c:noMultiLvlLbl val="0"/>
      </c:catAx>
      <c:valAx>
        <c:axId val="43241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52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3E5-14A1-4AF7-BC7A-B333CB45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7AA-A822-4DAE-9D20-B62857F3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D32-30A3-44D8-A80C-8471C40D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398-75E9-4D2E-B1D9-C3D09126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8E52-74B8-4F56-8229-6AE92FA9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5C0-2861-4AD7-ABE9-EF7B022C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81F-CE9A-4BAA-8DD8-A41890A7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253-9537-40F6-9E71-B0F802DB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59A-3AEE-4943-95E6-B482D7BD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E1B-57A9-43F2-9089-AFCB5D8A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2F7-3F96-4B36-BAF7-77C860DF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5C2-7002-4A78-908F-B192DFFA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7BA2F-1AE7-460D-9CFE-12B474AB9B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