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705176"/>
        <c:axId val="18393066"/>
      </c:barChart>
      <c:catAx>
        <c:axId val="19705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393066"/>
        <c:crosses val="autoZero"/>
        <c:auto val="1"/>
        <c:lblAlgn val="ctr"/>
        <c:lblOffset val="100"/>
        <c:noMultiLvlLbl val="0"/>
      </c:catAx>
      <c:valAx>
        <c:axId val="183930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705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28C0-AB35-4859-9C01-2551FAD31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0EBF-44F0-4446-B457-6EE96E9DD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180F-95EC-41BF-AF8E-3443C7A6F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626A-D0D8-4AE4-97A0-E9383E8CC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5AC9-230D-4251-A356-44465B01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89E1C-C2B3-427F-B36A-9F50BDB1D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87DA-A664-4109-B9BD-2194CC789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00B9-EBB6-4474-83CB-D80AF0C6C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32DF-2C7B-48B0-999A-0D887F75E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0EE-928D-4C0A-ADCF-9494A731E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6F7-43D6-468C-9497-480C31D0E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B93E-E11D-4EBF-8AAE-6374128F0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43B82B-7D57-48A3-9598-C378C5F8B28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