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50118"/>
        <c:axId val="14591169"/>
      </c:barChart>
      <c:catAx>
        <c:axId val="18950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91169"/>
        <c:crosses val="autoZero"/>
        <c:auto val="1"/>
        <c:lblAlgn val="ctr"/>
        <c:lblOffset val="100"/>
        <c:noMultiLvlLbl val="0"/>
      </c:catAx>
      <c:valAx>
        <c:axId val="14591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50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38E-EB01-4E2D-AC85-8654555B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C4D-9094-4C2F-AAFF-82F46621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7E0-E570-4F9B-A013-33371811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65C-6C6A-46CF-A8FB-C64836C8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345-5385-43E0-BAC8-8B38A80D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025-EB50-49B4-918C-C0EA632D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F84-E2B3-434B-BA8A-ED4E7D8A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66C-77EA-4618-A451-25C27DCB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32F-56D4-488A-9874-4BB159B3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D95-12B2-4F91-8A80-C6A8E913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A42-B24A-4259-BAD4-16CDB309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D1A-C84E-47D1-A723-FAC300BE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7717C-68EE-4C9F-BB4A-7058E68B6A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