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26608"/>
        <c:axId val="69245958"/>
      </c:barChart>
      <c:catAx>
        <c:axId val="62426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45958"/>
        <c:crosses val="autoZero"/>
        <c:auto val="1"/>
        <c:lblAlgn val="ctr"/>
        <c:lblOffset val="100"/>
        <c:noMultiLvlLbl val="0"/>
      </c:catAx>
      <c:valAx>
        <c:axId val="69245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26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C1A-518D-4F72-882A-25113D23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36A-C6BE-4C36-BD32-ED1CA0C1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9EA-028E-4F1C-8DB2-C7846387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592-4F50-49EF-BFE9-DE8339A7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922-155D-4E86-862D-F912E820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77E-9F83-415F-9819-48E65CDF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823E-6645-49A7-A8C1-9ED25DA0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DC4D-EAAD-4883-9FE3-D3B7F73A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86DD-641D-487C-AD84-F40F7E80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416-C1EA-4F82-A73F-F811B940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1FE-3436-4D98-B547-2B4EAAA2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472D-C140-4492-B9AC-7762E38C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61F4B-2A76-4189-BFF6-4CF5C2E6D4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