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40047"/>
        <c:axId val="25550893"/>
      </c:barChart>
      <c:catAx>
        <c:axId val="76040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0893"/>
        <c:crosses val="autoZero"/>
        <c:auto val="1"/>
        <c:lblAlgn val="ctr"/>
        <c:lblOffset val="100"/>
        <c:noMultiLvlLbl val="0"/>
      </c:catAx>
      <c:valAx>
        <c:axId val="25550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40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B01-62FE-4828-BBF4-B1C8D26A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E67-916A-40AE-8760-7CDC13D3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7AA-0AF9-4F51-AE6B-91032751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71A-37EA-4554-A602-C4641B68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BA3-A17F-4CC0-8F02-7F6B2F21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6A5-D540-4192-AE42-DA6C2A1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CBD-DCC2-42B5-B0FC-FFC53148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BFB-1C7D-4A47-91C3-00586D9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E0E-AE95-4EFD-AF88-2D26EDD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ECF-F4E1-412C-919B-E438FFF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3EA-B980-4E4E-BE20-A1D0870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F18-8F6C-4399-965C-3FAE843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81EA-22B9-475B-8C65-5D3200BE7A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