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25409"/>
        <c:axId val="42091315"/>
      </c:barChart>
      <c:catAx>
        <c:axId val="75725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1315"/>
        <c:crosses val="autoZero"/>
        <c:auto val="1"/>
        <c:lblAlgn val="ctr"/>
        <c:lblOffset val="100"/>
        <c:noMultiLvlLbl val="0"/>
      </c:catAx>
      <c:valAx>
        <c:axId val="42091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5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226-57A0-4721-B1ED-8E8B2FE9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7A2-AA74-4F6F-B3D5-C11CF13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FFB-1AB4-4FDE-9EF2-A2F93A3E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0DA-4E62-4EC8-99D2-4C06CEBE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D39-F119-48B1-B932-944C8EC1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03D-8582-43DC-9074-FC50509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D64-E747-416C-AA6A-38D15F38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A0E-FB53-4D08-BD6D-5A6AB4F5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C01-3EB5-487B-94DF-5274D632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DFB-FEAA-41FD-A3EA-1F4663E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8EE-19D3-49E5-A684-2C5EC8D6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E24-5CD0-4794-89E8-B0A1E41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21532-7FDE-4DF2-B86D-59265BB952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