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41583"/>
        <c:axId val="11590020"/>
      </c:barChart>
      <c:catAx>
        <c:axId val="63341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90020"/>
        <c:crosses val="autoZero"/>
        <c:auto val="1"/>
        <c:lblAlgn val="ctr"/>
        <c:lblOffset val="100"/>
        <c:noMultiLvlLbl val="0"/>
      </c:catAx>
      <c:valAx>
        <c:axId val="11590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41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76D-DDEE-4F2D-9B28-683750DE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DD3-559B-4B5B-A30C-D6E4DCC0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344-5F35-47BD-8C84-4A3DE098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04B-CF79-4AB7-A9DE-29F9BBF5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622-A871-4369-AEAF-E274190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5BA-DF62-49D2-8572-1626055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BD0-6167-42ED-9D7C-563E165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57E-AF42-48F9-AE93-0BF222C4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D01-87FB-4958-821C-1BD8879D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ED7-6145-4ED0-BD08-05E01617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F6D-6075-4A6D-B2FB-3D21AB2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6AF-8233-4333-83D3-A1D71D6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1FC63-68D6-4760-927A-5E7996942F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