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076583"/>
        <c:axId val="87894683"/>
      </c:barChart>
      <c:catAx>
        <c:axId val="170765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94683"/>
        <c:crosses val="autoZero"/>
        <c:auto val="1"/>
        <c:lblAlgn val="ctr"/>
        <c:lblOffset val="100"/>
        <c:noMultiLvlLbl val="0"/>
      </c:catAx>
      <c:valAx>
        <c:axId val="878946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765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CF99-72F5-4987-B6D9-8C6497D5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012A-0075-46CE-8E0D-C850983C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5C0-A7E1-4A7F-87F2-0E339E31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3A58-DCD0-42DE-8A61-64908786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9D38-ED7E-4E58-A88F-197BA165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077-5233-44FD-B228-9683003A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B5D5-F4EB-4348-874E-DA904EF9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2DB0-F9F3-409E-B82D-58CEDE5A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1669-80B2-48AB-8028-DC045112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F238-E3D4-438E-BFDD-F5003955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D796-098D-49CE-8323-E86E3B77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A11A-BE19-426C-9AB6-DD6EE681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49AA0-FCB9-403D-A1A1-A89F5E70FF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