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851305"/>
        <c:axId val="15100734"/>
      </c:barChart>
      <c:catAx>
        <c:axId val="908513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00734"/>
        <c:crosses val="autoZero"/>
        <c:auto val="1"/>
        <c:lblAlgn val="ctr"/>
        <c:lblOffset val="100"/>
        <c:noMultiLvlLbl val="0"/>
      </c:catAx>
      <c:valAx>
        <c:axId val="15100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513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479-5A11-44D5-8D13-38B95EB3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5470-B598-40A4-927E-638AAC08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A1E3-24B0-4C37-A157-78984FCC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E3B7-A302-418E-80D1-A74280CF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8DDE-BB64-43A3-B3CF-CBAB9CDB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A188-431C-434C-8CCE-1B3B717C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158B-E7F1-49F5-86CD-EFB18A13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CB2-A0DB-4ACB-91F4-EF2D2DEC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846D-D04C-4B6D-A193-DFC63350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AFE8-8CD2-48E2-8DC2-982701B8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3ACF-3040-4C22-88F1-CBC0FC24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9331-A09F-4096-9DFA-4378176F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9F32A-4536-4B13-B486-D2A1DB1A83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