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080199"/>
        <c:axId val="21033812"/>
      </c:barChart>
      <c:catAx>
        <c:axId val="400801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033812"/>
        <c:crosses val="autoZero"/>
        <c:auto val="1"/>
        <c:lblAlgn val="ctr"/>
        <c:lblOffset val="100"/>
        <c:noMultiLvlLbl val="0"/>
      </c:catAx>
      <c:valAx>
        <c:axId val="210338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801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9178-2B6C-46DF-A620-5EE519FDD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759C-4A73-4CEA-BAF1-3F04DB82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E066-AFA3-49E0-8708-E14E7CD0A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1457-DD96-4420-B484-27A18E16B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3E26-9C13-478C-B9B9-DE4CBD2C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A807-7995-4FDB-B3A4-45BF3F73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0162-03CB-46EA-888A-B3A5E77A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324E-23AE-4F32-999B-E3F3CEBB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B8C4-406A-4A9A-98C4-42E8BC22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2DD5-B5D6-4FE6-A4DD-0DEB960A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7A95-7E5B-49ED-B721-AADEFBDF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0F9B-2598-40EF-AD8D-32B62979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4DB58-766B-46DF-81AE-0C7EC464F5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