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41713"/>
        <c:axId val="26065838"/>
      </c:barChart>
      <c:catAx>
        <c:axId val="49641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65838"/>
        <c:crosses val="autoZero"/>
        <c:auto val="1"/>
        <c:lblAlgn val="ctr"/>
        <c:lblOffset val="100"/>
        <c:noMultiLvlLbl val="0"/>
      </c:catAx>
      <c:valAx>
        <c:axId val="26065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41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D69-F0D2-40D0-9DCB-30435EF5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423-AA46-4C72-B4CB-EACC7020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B3B-F2F6-4613-B8A5-A2E561A3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5B9-6C5F-4ACD-9FE1-11081F6E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979-44B2-4214-8B98-BD3A5BD6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EC0-C183-4FE1-B422-E549B197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D8D-96BE-4EBA-851A-F42F0A89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080-A3DF-417D-A62F-78D6BD06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005-83C8-4C22-96DD-09716EF5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305-2E88-4C11-886B-EA72CDA2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C43-656E-4EAD-92BE-9742DB99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EDC-3FF5-4BCA-B10E-26DC8640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3A34F-D270-4724-A1AD-D28A3EDD9E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