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091"/>
        <c:axId val="91218177"/>
      </c:barChart>
      <c:catAx>
        <c:axId val="340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18177"/>
        <c:crosses val="autoZero"/>
        <c:auto val="1"/>
        <c:lblAlgn val="ctr"/>
        <c:lblOffset val="100"/>
        <c:noMultiLvlLbl val="0"/>
      </c:catAx>
      <c:valAx>
        <c:axId val="91218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617-ACAF-44A5-8035-75FA64BF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072-8828-45A2-A3AD-A8BE7350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998-29DA-47B5-BD58-F348D2FF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C75-717A-4CEC-A6E4-A08818E8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837-5416-4313-9C0D-0131FA49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11C-9C19-4D24-AEEC-446B0BF2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F0A-CF0F-4D00-A4CC-353E2C48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266-20A9-4485-8948-F641A795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B18-FE74-4F5B-8D77-95DB6117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5F3-742F-4EAB-8ACE-56737D7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BEF-2E7D-42B6-8EB3-1468852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3AD-F935-4098-8942-F108AAE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4EF8D-F6DF-4913-814E-92813D16AB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