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03907"/>
        <c:axId val="90657469"/>
      </c:barChart>
      <c:catAx>
        <c:axId val="54403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57469"/>
        <c:crosses val="autoZero"/>
        <c:auto val="1"/>
        <c:lblAlgn val="ctr"/>
        <c:lblOffset val="100"/>
        <c:noMultiLvlLbl val="0"/>
      </c:catAx>
      <c:valAx>
        <c:axId val="906574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03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8A3-5EB4-47C4-AE9D-DA480A74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919-AEB8-49F8-9C87-5AEAA33C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5FC2-1916-45DE-8078-22A717DE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A745-3B64-47BE-9478-5CB0D240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BA4-273B-4FFC-8B36-1C89496F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E0A-8296-4A40-9B52-ECD3039F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1EB-21D2-485C-9FB2-08C7F2E4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4E5-327A-4EBB-9DA0-2FDAC3A7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F87-9E9D-4E51-91A7-918C9ED8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993-9516-495A-8A22-CADFAC81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70B-0EFB-4366-9679-3D94989C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D40-9799-48C8-8C9C-584012A8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814D5-1439-4E48-A903-9A91788004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