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4474"/>
        <c:axId val="75381747"/>
      </c:barChart>
      <c:catAx>
        <c:axId val="89844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81747"/>
        <c:crosses val="autoZero"/>
        <c:auto val="1"/>
        <c:lblAlgn val="ctr"/>
        <c:lblOffset val="100"/>
        <c:noMultiLvlLbl val="0"/>
      </c:catAx>
      <c:valAx>
        <c:axId val="75381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4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0A5-8CB4-4D7B-8FE2-00F2F361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491-4D98-47D2-A980-066F14DD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65D-2588-4E71-80D2-AB0749EA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4C8-67D9-4906-80DD-27A2414E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5B2-34E2-45D7-9893-B226471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4E67-0A0B-4EB2-BF32-0BC55B84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829-9DA7-4640-88BE-D2B0E4C2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F77-A472-4107-8199-1D4ECDE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281-FAB3-4596-A427-35DEABF1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5ED-098D-45A1-B3E9-53C5667C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C177-F70D-4B7E-8C4C-77F072DB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257-48C4-41C3-9571-BF1FA791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D7D39-30AB-4150-839A-8D232C725F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