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40130"/>
        <c:axId val="7855431"/>
      </c:barChart>
      <c:catAx>
        <c:axId val="94240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431"/>
        <c:crosses val="autoZero"/>
        <c:auto val="1"/>
        <c:lblAlgn val="ctr"/>
        <c:lblOffset val="100"/>
        <c:noMultiLvlLbl val="0"/>
      </c:catAx>
      <c:valAx>
        <c:axId val="7855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40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463-C771-40F9-A08B-8564E0CC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E0B-40BC-432D-B7CB-7D15487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C43-2ADD-4B8B-B0DF-2AFE0549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8E7-FE75-4C91-8830-1FC18F1D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2CC-3604-4121-9DDB-CC9087B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3E8-ACF0-4CF3-A77E-E83B82C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763-367A-4BEE-BD71-76351DCA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78D-EDF3-431C-8A9F-42568543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D93-9901-41BA-9FB9-E35A28FA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BD9-C0AE-40F8-860B-B33DF7C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159-AF8E-400C-A6FF-F41341F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BEC-AD43-451A-9CD2-93C769A4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40B57-DEF4-424C-A9E2-AED6DA2FD6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