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45986"/>
        <c:axId val="89848757"/>
      </c:barChart>
      <c:catAx>
        <c:axId val="99645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8757"/>
        <c:crosses val="autoZero"/>
        <c:auto val="1"/>
        <c:lblAlgn val="ctr"/>
        <c:lblOffset val="100"/>
        <c:noMultiLvlLbl val="0"/>
      </c:catAx>
      <c:valAx>
        <c:axId val="89848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5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998-5BA2-4193-AD78-93696424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781-03F1-4C3F-ABE8-C25B11A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C45-AC39-4713-85D9-EE833055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70E-DAD0-41ED-BBA4-9CF8ADE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3C2-3ED8-408C-B35B-27E2AD9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2A4-860B-4A09-AD3F-4F10436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6AE-0FAE-4550-8352-45E97FB8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BF6-B5D1-4B05-89C0-0346D2A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3D2-D126-4A75-9A55-384E730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122-044F-4B0F-8B3D-CA8F1FA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2EC-2433-4B21-963E-57B7D7E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95F-17C1-4C86-AED4-5A1AEA7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74279-1D4A-43EA-AFFA-B80677B2A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