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72647"/>
        <c:axId val="27155164"/>
      </c:barChart>
      <c:catAx>
        <c:axId val="89472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55164"/>
        <c:crosses val="autoZero"/>
        <c:auto val="1"/>
        <c:lblAlgn val="ctr"/>
        <c:lblOffset val="100"/>
        <c:noMultiLvlLbl val="0"/>
      </c:catAx>
      <c:valAx>
        <c:axId val="27155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72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B26-1386-4112-B39A-6EB437E4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E72-372C-4887-A781-D8CB87F2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6078-24EF-4EFD-A983-898878A8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DAE-1CDE-44BB-AA86-86442F5B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70A-A390-4EA1-9F8E-1FE35AAB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CAD9-A382-4EBD-848B-8601ACB0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C222-3FA7-4DA7-B21E-D8C8B041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507-957F-4679-927C-0C79BB33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DBC-E173-4CD7-9CC9-E82B8B99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7889-B8C7-4BF4-A5F0-378834B9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143-2A61-434E-8663-9E1EAAC6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FDE-E6AA-4E70-B0E4-E9A1248F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1F999-0549-4C36-8E6B-AD36E095BD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