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5966"/>
        <c:axId val="84619775"/>
      </c:barChart>
      <c:catAx>
        <c:axId val="2765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19775"/>
        <c:crosses val="autoZero"/>
        <c:auto val="1"/>
        <c:lblAlgn val="ctr"/>
        <c:lblOffset val="100"/>
        <c:noMultiLvlLbl val="0"/>
      </c:catAx>
      <c:valAx>
        <c:axId val="84619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5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D5E-C066-43B6-AE85-F3663E12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C50-648B-4B47-BE98-A8A7101B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8BD-FAB0-4F1B-9A53-FB733CD7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778-06E7-4541-9C88-43443979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9AB-935E-4462-BBC0-027E4B76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7F4-27DB-4636-86CC-69B92E9B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784-5281-4C2A-BBF5-6264B7EE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D82D-0D58-4029-8345-45F616BD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709-DED3-4633-8849-2F84654B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0D2-D52E-4FA3-BCBF-94EB3227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70C-D5D0-42CB-AA1A-8D550165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5FB-FA11-41C4-9E23-5379080E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27CDE-EC3B-4DE7-87F0-D4358B4E5E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