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88757"/>
        <c:axId val="24142724"/>
      </c:barChart>
      <c:catAx>
        <c:axId val="194887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42724"/>
        <c:crosses val="autoZero"/>
        <c:auto val="1"/>
        <c:lblAlgn val="ctr"/>
        <c:lblOffset val="100"/>
        <c:noMultiLvlLbl val="0"/>
      </c:catAx>
      <c:valAx>
        <c:axId val="24142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887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1B9-3736-4100-B75E-FBC996E3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27A-26EF-4EDC-A56C-6F6DE161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67B-A24C-47E0-BC28-4A371232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1BF-AA1C-4574-87AF-B4BA0F2C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B0E-1B9B-47F9-BC6C-AC36C7A6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D75-0A56-46AF-BCB0-68662D54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80C-AC07-4633-9033-727425DE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ECD-5648-45B5-B36A-EDD29830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0D3-9460-4BAF-A709-FF8A930B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AB2-2DF0-48A9-A769-33D6FAD7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147-31EC-4EAA-A3FE-6A6350DD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01F-5973-4594-AB78-8B82D763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B479D-F4F7-4ED6-B5E0-56B5391E3B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