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66443"/>
        <c:axId val="69139649"/>
      </c:barChart>
      <c:catAx>
        <c:axId val="952664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39649"/>
        <c:crosses val="autoZero"/>
        <c:auto val="1"/>
        <c:lblAlgn val="ctr"/>
        <c:lblOffset val="100"/>
        <c:noMultiLvlLbl val="0"/>
      </c:catAx>
      <c:valAx>
        <c:axId val="691396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664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6C94-F232-40B7-AF64-549C4A28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559F-7B5C-488C-B057-50E6301F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4CD2-2339-4F7D-921F-79AF46C9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3EC2-C985-4A6B-9842-C5666BA0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8CF3-AAB6-45B2-AB9F-CC31EBFB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BA8-B7EA-457C-B11D-FBADD732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840-A8C9-48FA-B3E5-54F4554C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2339-92BC-4EA9-B4AA-77CBF8C0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BED-1B45-40B5-8F53-5746F43E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5157-D9A4-43ED-A46F-73E485D5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E59F-D0BA-465F-93B6-A132739F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607A-6C92-4134-A07F-5BF6A4F3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BAE29-E873-48E5-9764-2A5174847A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