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99479"/>
        <c:axId val="55676805"/>
      </c:barChart>
      <c:catAx>
        <c:axId val="68999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76805"/>
        <c:crosses val="autoZero"/>
        <c:auto val="1"/>
        <c:lblAlgn val="ctr"/>
        <c:lblOffset val="100"/>
        <c:noMultiLvlLbl val="0"/>
      </c:catAx>
      <c:valAx>
        <c:axId val="55676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9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E75-C1C7-4BF2-A640-11A14DEF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910-6A1D-4F91-9FCE-CB4EB4F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C9A-C81F-4A11-B4FB-1C91710A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B1E-CD4A-48F1-88F8-486888AC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328-F4BE-4D91-AFAD-89FF1F07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200-00CA-49AC-ACF1-8A5E0664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C35-58A2-4D50-89F4-B0BCD5F8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3E3-137C-4A18-8E44-68CA257F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7B4-DE58-418B-B881-1A0EE71A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941-CB82-4B7D-A700-7422985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8B7-9CD7-472D-969D-D8B4AA7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454-D2E9-41C1-9D26-1514846F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30BC0-6F91-406A-8204-BDF7850AD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