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69748"/>
        <c:axId val="16201323"/>
      </c:barChart>
      <c:catAx>
        <c:axId val="61769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01323"/>
        <c:crosses val="autoZero"/>
        <c:auto val="1"/>
        <c:lblAlgn val="ctr"/>
        <c:lblOffset val="100"/>
        <c:noMultiLvlLbl val="0"/>
      </c:catAx>
      <c:valAx>
        <c:axId val="16201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69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716-BA2B-483A-B53C-1CE5B7BE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BC0-564F-455D-9B0E-FDAD3968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CC7-A3A7-49C8-B093-C6235560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A9E-0FE7-46FB-8875-71C26171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A5B-CBAC-43DB-8ED0-F8045122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373-01B9-458C-AA23-FD9E98F5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00B-2BE5-4761-8287-65158FDE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31F-27C5-41FA-9AA4-4B499509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DE7-CA84-497C-977C-2A9ACBF6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11E-6372-4D74-B281-34869FD2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E49-8D3D-4CBE-958A-C6C1E96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137-0720-4AF9-9FFD-9CF2749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9AA8E-AEFE-42B5-B195-17544693C9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