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16926"/>
        <c:axId val="7675898"/>
      </c:barChart>
      <c:catAx>
        <c:axId val="62169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75898"/>
        <c:crosses val="autoZero"/>
        <c:auto val="1"/>
        <c:lblAlgn val="ctr"/>
        <c:lblOffset val="100"/>
        <c:noMultiLvlLbl val="0"/>
      </c:catAx>
      <c:valAx>
        <c:axId val="76758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69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F1CA-1449-4DDA-88A0-80D57237A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3C5C-CEEC-4D37-A67A-810C57B8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3085-E932-455C-AB2F-618E80A79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CF6E-AFAF-40B7-94B2-16C1E5301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3C3D-2716-444C-9ED8-F02569FA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E016-9920-488C-912D-65DD7EF6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D1F4-0D42-4B72-A8AD-4D997CE6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9E1C-853F-46D5-AEDC-02DAFD11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EF2D-6D6A-44C6-A103-5E807D9B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792C-FDE4-41E5-A2C0-F1CEB7F4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9998-7E21-4FED-9F12-D7BA467D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4358-ECEE-42D5-8CDA-9E38369D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3A744-492F-4F5F-9810-44979A6C82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